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945-FD0C-4B71-952A-2BC35A38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E74-6E1D-4807-AEBC-DC98B4E6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2C0B9-A5AC-4D2D-A8E9-7A682589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117EF-BC8B-45F5-8792-F4D2118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00F41-1B9C-4020-96DE-36E1CAB5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5DAFD-9D4F-4A1B-A62A-D50D17C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2C114-4680-434A-B7EA-D99AECD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66524-5BA3-4FD1-9313-F9AE6B2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A66E2-64BF-4978-ADF2-9FF19BE0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ACBC4-ADFC-4607-8E21-29D9EEFD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91B07-6888-423C-AA45-82CB79F3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7BCC8-2F60-435B-8C95-D576244D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C55-ADDA-47CC-A38D-7F0C0638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E2C1F-5973-4080-9C77-DCFD97DE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CFEFF-CE7C-4D60-BC19-6B441349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142A1-E377-4C06-A482-F8AA5985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6D05B-0248-411E-B2DB-BD1686C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9E61C-2F0E-4F8A-96FC-CBE27BD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79969-C66F-4CAA-B874-ED44BEA7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002AC-3BD9-427B-8C86-0B202A2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7119A-611B-4199-BF3F-2AD930B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125ED-13F4-4FEA-8DA8-F849D59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86BD5-87C4-4C3A-ADF6-2CFDB5F4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16F-355D-45C9-9262-BD12BA8B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95BF1-0E7F-4022-8E00-E659CD2A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B2904-06DC-44E4-A8B9-25B35F04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634FC-36D3-431D-8513-A4EFE31A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2A01F-0D73-43FF-BD76-979800C9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FDAFB-5811-40A6-94D0-25670A8C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39B1F-7BC3-4AD2-80C9-DDBF87E7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2E33-DC76-4247-A147-2868CF2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B27B8-BB86-4025-BD94-D220985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ED37-DCF8-4BE2-B6EF-6285D9E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09CC-02A3-4044-81AB-D4EFE486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DA4-9D93-4117-ABF9-49977F39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311F5-79EC-4243-8B7D-025B640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037CE-DF62-4BEE-9F05-87074466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73B9C-C5EC-4D0A-A618-8161A3FC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8619C-D0B8-4CB7-ACA6-081CC3F7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5EE4A-BD99-4B26-99E2-B899479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0B16A-9E51-45B2-8B7C-58F7938D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A6BAF-9F37-4FF7-B785-292B4EAD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ACC9A-1AF3-43B2-9219-A390CC3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8776F-FBB2-446E-A55B-72DA4A8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D02E6-0802-4EB9-ADBE-FA419B4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8FA-F95B-453D-8F51-D750AD6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FBAD4-D3B7-4F62-AC3C-09E70F05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24A3C-184B-4F67-88E4-2160BED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05C9A-010C-4225-BEB3-25E5627A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714F1-F63D-4310-B302-65EBFDA3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C8362-CA29-4C5B-913A-BAE36A5A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BEA51-AD39-4CA2-A9CF-9376214D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C72D0-1F16-4131-A334-9607D699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F603E-F538-404E-888B-91D46950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E9BB2-3AE8-49D7-97D6-1C1C8F7E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23A3B6-CB98-4890-9F1D-937EC34A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D59A-40CD-4C23-93FC-1BA4EA83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D4ABD-16C7-4308-8F01-5A7C958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1A53B-A7A1-40F3-9A57-A17E044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A3EAB-4ADD-484E-89CE-045A1F1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EC0DD-4E01-4DB2-8034-6C078A59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D02A1-54BC-4860-9500-646A982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5C346-47ED-468D-8E72-6FCBBC5B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7E985-6346-4D5C-BF77-7EF0AEDC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90DDB-B761-4BBF-9E9E-9047FF42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B39D7-1870-4BCA-A418-6F0E0EE4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5FFCF-8B8B-4ED8-A49E-5FABA9EC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694-E549-41FD-AC0A-07F5D110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FE5F7-0276-4163-B723-9FE7C1F4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DF1A6-F117-4108-9C50-09108C1B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023EF-D6B7-4B3F-B7C0-B0538FA0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FDA02-5EF8-4FC8-B919-11148AE0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C2D5B-E873-43CA-9F28-406C385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E084C-4160-4B2F-83C1-36F44DD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F7700-CB7C-4BC9-AEEF-8CF2491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F36A7-C638-4B33-A114-6AF5F2C5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84CFF-1805-4771-AFA7-31EFE151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CA5690-D953-4018-8A66-760087F4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AF3-B7A3-4834-A41C-AE0351A7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84AEF-1680-4B27-8EF2-14F7BA2D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0C10DD-4F8B-4C51-AEFD-64D9F374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0402D-57B2-4312-BB08-5ACA5E0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C55885-92DE-4B4E-937D-7E1290A7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A4F68-0A84-496F-B8EA-5E309C3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E5EDD-3FD8-40B7-9B57-595612A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C2781-6373-4511-ADB6-25BB1D6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855DD-6CEE-450E-8012-43489681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22CC6-DD43-44E1-A37B-DE3C4A72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38598E-C832-4D3B-B0F9-2DB0D44C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449F-FF97-4FA6-882C-D610A481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17724F-2C9E-4360-A8C6-797BECDF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826C8-599A-4125-A8E0-CB9C611D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F999C1-369D-40B3-AF99-DFF31793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0D822-C17C-468E-9A15-9BE57AC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01D9C-CFE3-4863-AE42-6EF2DE62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D9021-E100-447A-82B5-FDA727D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26BA5-EB8B-4930-94C1-4E95C485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46CE70-31AF-42C1-B611-9DC39D7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644F2-2625-446F-951C-1521F8AC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66806-6146-40E3-A2D6-944C8C8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1EEA-6EB4-433F-901B-BE430BD9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49872-BDC9-4722-8DB2-85FFBBC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90A0F-B44C-4C06-BB78-12DD71E8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53FC7-7F99-4C53-8260-DA0BA89E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DA3AA-9EF6-47DE-92CA-C2AB4721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96176-6D29-49BC-AAF9-D421F98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ACF550-53DE-4CB8-B63D-2039A927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CF040-2708-4038-B8DC-180518C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56FA2-3EEC-43AC-9E71-FC503F6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F05A0-4D7B-49C1-ACE4-93A24827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5E78A-35A0-48E4-A2CD-0E4A392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B7C-04A3-460B-93F1-93888C83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F0C8-5472-4534-8206-02C7D59D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33795-11B3-439D-BA01-E693148C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8E2D5-0824-4861-90E5-13FBB74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0CA0D-DF13-41F4-A7CC-BEB5759C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060EB-47DD-4DBB-AADB-B8431FA7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C608F-1057-4D18-AE1B-AEA026AF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A7E099-78BC-4061-86CC-738D4FE5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695C2-B8B7-4CFE-9CEB-4BE4DE2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7AC6C-8758-41F0-AE74-D151CB8B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0BF1D-9A37-45B5-A111-6975BFC6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82EB0-9A2A-4ED6-A60E-DAE93727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BB5-CE01-4D19-9609-9009414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A0F4DA-DD50-4B05-8B59-3AEF5B61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FE499D-8A84-45D7-AF2D-1CD45E1B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7E054-77AD-4649-A237-0DD3BAAB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3A62C-363D-46D4-9AE3-8B7BB3C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AEC05-5D0A-46C8-9601-18D06E85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89064-EDFA-449A-8F75-D3A79A1C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8755C-AEE4-446A-8791-3A50D483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024BE-5714-48EA-ACE9-CEF999E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A9BDC-7561-4DFE-9142-4CBD57AF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85099-9F36-43DA-BEFC-5496F060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A258-3D4D-48C0-A075-5F2FE04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4AB0D2-B11E-42F6-A503-422B782D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EEA43-4B89-4A6D-8898-2E5DB6B7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AE7B6A-9DC4-4960-A723-D71468AE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23A11-EA89-4737-B3F2-05250CE3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917259-458A-44B7-8F81-E54AF779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2C4AB-8873-4541-9319-D9008589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F6234F-2945-4903-B8CC-B9964027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8747E-3A1F-4B68-9D69-0A8354FE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00013-2E24-4867-9B89-8379E696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4A2A0-A310-4DAC-B2F5-311E6960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FBA-A12C-4D8F-9971-55852C76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47A6E-E134-4308-8A48-61E5DAAF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B0F49-B6E3-4694-A8AC-8534FC4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94520-6626-4C21-BB9C-18FC69B8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1335D-57B5-4BE7-9F3C-E744738D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353AF-26BC-492B-9BD8-31B9D0B9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B3D1C-162C-401F-9D8A-39308BE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EFE2F-E090-467D-A98C-BC5C62AB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850A5-91A7-49D4-AA48-2F68801C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314515-134F-4B60-829F-AB44DA06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54A6E-174C-498B-AF0B-FB579118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FC30-8859-4CF4-AE4D-915EE815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1C135-C1CE-4D71-B5DD-F0BB1BDE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B425B-EDEA-4818-833C-23F15882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EBF0D8-AAB8-420E-8826-0FB9C5C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DE2F2-BEBA-4C81-95AD-3ADA5EE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05A48-728A-43F6-9C38-DB922215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46AB88-8103-4F47-8D3F-D5BFC177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23D569-3466-4959-BA1A-F495174B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87BC51-B1B0-42AE-A56F-454C1F8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707A5-9772-43E9-874B-518C453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730EE0-A638-4FA0-8C16-75CE534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A3F5-638F-48EF-BFBF-A130F546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CA896-A15A-4B27-934A-1CABFB81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E6EC1-CD0F-4C47-810D-A057EA42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45C564-2367-443F-A729-BE4C1B31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7AD0-0358-4CF1-95D2-11B1DB09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DE9C-BBEA-4754-8FD5-ADF96453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A638-A19F-4779-A94E-C5768E36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BB17-9875-4DB7-B79B-EDDF1F3F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853-F951-4D02-88EB-C0343606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D51F-EBE0-46C1-9D21-6DEDB8DF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4C22-73A6-486E-89A6-F01CC08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22F1-9971-477A-81A4-361BD9B9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B299-6E4A-4A50-9F2E-2DB4652E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56EB-F743-48AB-877A-FAC82634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946B1-E357-4366-835E-D5C49F69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A14E-5178-4D8A-AE63-5D42FB45D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C4ED-C4A0-427C-BA59-4702D662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E969E-5BE4-4850-9830-D4F7BA8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DD4EE-3BCC-47D1-950D-C23004D5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2F0-B8BD-4BB2-9E5B-BD0A880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58FB-C1B0-40C0-ADA9-787F2B1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D5C2-3B99-4738-A62B-454BC01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53AB1-0DCE-4463-A5EA-FF5D0A1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0590-6A75-452B-8410-E278862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4579-8DEC-4A64-9B50-A0325CCF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95BD2-E0D7-4BF7-8617-AF55D8E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FFA8-7237-46BC-87B4-4BD95061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B23A-5721-404C-9943-C9DDC364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6727-3967-4230-841F-89CAB600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54CEC-3EF9-4B07-8C67-E73AA5B2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042-F6FC-468E-A874-96A8AEBD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AFF84-F6F1-42E3-AB4B-EBBD34F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61892-BF20-4788-BFD5-92139599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F972C-6A91-445F-B804-FBC78A63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D0E19-5E62-4D68-A6BD-C48DB3B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CDBCA-816B-450A-AB0E-A42EB41A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32936-6BE3-4AFE-A596-D3FC7008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2548-DD1B-41C5-B440-4ED4287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47671-C0BA-4EDC-9297-7BA863B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0A28-E60D-4697-BA3D-EAF3D0D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74D3-E73A-4A97-B033-17EB9AF7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B26-A93D-4E78-BDB2-DEEEDAF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F5E5C-8FE7-4F59-97A3-6EF32613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E7AE-19E3-4E63-B909-E0CCE143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04C0-F95A-4C94-9412-7CD68F3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6D825-CCB5-4F3F-AFCA-9B46492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67F9-3C28-4414-9143-FA749E8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3A8FB-DD3E-468C-9324-F383F086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BC851-F353-4D56-BF3C-6CF5CD7B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D023-8515-48B1-9685-A3B0E007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48C60-8B9D-42F0-99CC-CA48BFA8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0B81C-8573-4339-9964-3A3B4AAE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2E0-584B-4825-85D4-161C427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AD03-9E07-4445-93DD-9EB271BE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0749-F542-4C83-BDB9-B2ABE11D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15C32-1B6D-4DCC-99D7-6A36A046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23514-09FA-4F15-837C-B4B4BE57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7CF21-A348-4D5A-AF1D-93593EB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FE5FF-A74C-4F05-94EF-5E1E67EB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8AF6-296F-45E8-90E5-51A4187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B66E5-A4BB-498B-9CC6-1A14228D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5F034-D90D-4C70-AF93-4D7C8132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E0ED3-BCE7-4E4A-9E1B-3BA6781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5DE-D26E-45BE-AE17-74558D6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59EAA-19B6-48FF-8860-E4C9C26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C70C1-EB1B-4869-9E6F-EE618EEF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42FDD-57F7-4390-9EC0-D28ADE54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ACD8-AE60-4C85-AFB3-CC9C9E34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5C232-8D95-48C1-BE89-7F328CE3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F4A37-7998-48EB-83FD-9BED155A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76F0-A99D-4B91-89A2-5F2DE1D7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9CDED-5E6D-43EA-AC03-AE880957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9D1C-2FAF-48D7-A8A4-C375F7D0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A5A3-E1B6-4053-9E95-313D246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867-41C9-455E-BC90-0277DE93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A383-6AE8-4025-9371-29C40D4A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5D579-CDC2-4235-95BF-392A2960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86AC2-C784-41CE-A12A-AEB55B6F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A09D-6124-47E1-8B04-C1210E2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ED994-1F37-4E90-B179-FE5038A2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A9FA-7D32-4216-8A1E-6C64ADA9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93727-5520-4DBF-8459-6DA89A28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4BFC8-243E-4770-B6A8-6AD6BB89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BCA3-DD74-49FB-BA9C-5428ACA7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84A59-55BD-44A7-BA02-117A7C3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F59A-7BF0-4F05-8A28-4D9B13E6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246-F903-4096-8AA8-D429ECDB4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9A0A-7E9C-4128-B76A-40A005AB5B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348-68AF-45FF-B9F5-F1C6A275DD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7B5-B94F-45BB-8D8F-86EC176217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0CA5-93ED-45EF-91E1-92F6747C2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9DD5-DA80-49B9-A0B4-FA7BECE17D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CE4-0780-4448-AE97-4FE33AF8A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A2F-75E5-4EC4-BCE0-C13B270510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880D-747A-4564-925F-257C63BB7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466-6352-4FDA-BA31-5D4F890CE3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6E69-C52E-4FC7-B014-2594C22F3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A8A4-F193-4BC3-84CB-7E308F69D9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40B3-942C-48A1-97D2-C6239F1E3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1B5A-3BE5-4351-9D61-FA4DE071D8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387-5241-4690-AC60-6B1B0B63AE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2EAA-A919-471B-955D-A37934BE76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F5D-CBCA-4E30-A8BD-0D251B421E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AA4-05D5-4836-84D0-8FC39341E8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8A49-4703-443A-AC80-737349813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247-0898-4A34-B69E-5E610AF97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8110-C1FF-4AE6-B6DA-F567D2AC1F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7411-6BD8-42C8-BC8B-6C549F4A37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1F5F-F7D9-4111-BEBC-A4E16DEAD0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D262-7188-4AF6-B17E-708D60875B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9AF-F9EE-4C29-9892-6ADE77A3D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86E1-CC94-4949-AD1D-F9C017A67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C239-37F2-4651-AADA-80964F2E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9428-5F8E-4F2F-A19B-881489485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3609-5015-4709-9E12-D6E089D60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4678-46E0-488A-90A0-E6FD3E8F4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BD70-628B-4A71-A365-8E7DE0547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540-2A63-4DDC-AFED-FFD0B9A14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5EC-C77D-4347-8918-BB97C88D77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032-5315-4B46-B6AD-3EA69B08E1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AE7F-70E1-4A5D-8180-E0BF81981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CBA-7C7E-464F-A54B-710941744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E1FB-4711-4C47-A757-403E2E0A13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248F-BA4A-4F71-A082-93D24787C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08A-34DF-4207-BBFE-9A180C8074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7520" y="3294000"/>
            <a:ext cx="905040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95120" y="1824120"/>
            <a:ext cx="8751960" cy="3209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187280" y="24066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2997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187280" y="35146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187280" y="40194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187280" y="45957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476280" y="1362240"/>
            <a:ext cx="8191440" cy="41335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476360" y="43797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20600" y="952560"/>
            <a:ext cx="89028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00120" y="2338560"/>
            <a:ext cx="7943760" cy="21808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476360" y="2852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476360" y="342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403280" y="39765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738360" y="2409840"/>
            <a:ext cx="7665840" cy="20383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8194" descr=""/>
          <p:cNvPicPr/>
          <p:nvPr/>
        </p:nvPicPr>
        <p:blipFill>
          <a:blip r:embed="rId2"/>
          <a:stretch/>
        </p:blipFill>
        <p:spPr>
          <a:xfrm>
            <a:off x="2700360" y="2967120"/>
            <a:ext cx="4176720" cy="5587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8195" descr=""/>
          <p:cNvPicPr/>
          <p:nvPr/>
        </p:nvPicPr>
        <p:blipFill>
          <a:blip r:embed="rId3"/>
          <a:stretch/>
        </p:blipFill>
        <p:spPr>
          <a:xfrm>
            <a:off x="2655720" y="3832200"/>
            <a:ext cx="41767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0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